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wmf" ContentType="image/x-wmf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FEA-FA40-477C-95A4-B65F9DFE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A06-EDDF-44BD-97C3-3A4FB6B2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here is insight to be gained from looking at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647-B0FF-447A-B566-CD7E88C733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778-6364-4D73-9F14-EA00EFE2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he top trends report comes out every 2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cademic libraries must start showing their value or they may not be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Look for ways to be on the revenue stream (grants, patents, tech transfer, etc.) rather than simply as a cost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4D9-DCFD-4451-8479-50688B995A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D2A-E469-42B9-B3D3-F2877D32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urrently published articles in prominent journals cite other articles in prominent journals = prestige and ten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his mechanism of using citations in published journals to determine impact of research was built in the 196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Based on the container (journal) rather than the 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here are bad articles in High Impact Journals, and good ones in Low Impact Journals. Why are we still doing it this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613-1663-484B-AD9C-7D2BFE5435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EE2-B667-45C6-8395-5A709569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712-F07D-4690-8804-68D2459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146-44F4-4F50-ADB7-37784A53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185-2380-4D3B-B2F4-F3DACBA3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3AA8-AC87-4C44-B53F-860BFBC9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A690-173B-491D-A36A-1DC261A7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B76E-5CE0-47AE-A261-FFF4F5C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4F01-7A68-45A3-AE71-DE5B1867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3F8E-0E17-4869-9BC0-A9FF3B2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D59-D154-4821-B170-4279C4BB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6939-66B6-4003-B163-260C8E7D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8DC-CFD1-48A2-8629-C78E9D2A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42CB-986B-416C-BE7B-3FAFD73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937A-8460-450C-B6D6-975C406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C2D9-90DD-4E1B-8DEA-DE46E01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51E-33A3-4A5D-9B72-EFB3D2AE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D155-FC37-43A5-B451-894A867B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5D2-7F98-4781-B27F-71828D7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9FC-C555-4AF0-A7C1-471CE03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EBF-D083-4572-AA88-B697DC4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7A5-572C-48E9-BDA1-83705AA3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F70-AB58-4599-B300-645B759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BEF-CADA-4141-A4F4-72B66BE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F9B-0CE2-4334-B352-AD55DF3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C12A-00A4-4908-8B02-525087B539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E0E3-EF5C-42DB-AB17-750980542D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jpe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ln.acrl.org/content/73/6/311.ful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rln.acrl.org/content/73/6/311.ful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从期刊到文章</a:t>
            </a:r>
            <a:r>
              <a:rPr b="0" lang="en-US" sz="5000" spc="-1" strike="noStrike">
                <a:solidFill>
                  <a:srgbClr val="006633"/>
                </a:solidFill>
                <a:latin typeface="Arial"/>
              </a:rPr>
              <a:t>——</a:t>
            </a:r>
            <a:r>
              <a:rPr b="0" lang="zh-CN" sz="3300" spc="-1" strike="noStrike">
                <a:solidFill>
                  <a:srgbClr val="006633"/>
                </a:solidFill>
                <a:latin typeface="Garamond"/>
              </a:rPr>
              <a:t>评价指标的变化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8"/>
          <p:cNvSpPr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標楷體"/>
                <a:ea typeface="標楷體"/>
              </a:rPr>
              <a:t>学术交流</a:t>
            </a:r>
            <a:r>
              <a:rPr b="0" lang="en-US" sz="5000" spc="-1" strike="noStrike">
                <a:solidFill>
                  <a:srgbClr val="006633"/>
                </a:solidFill>
                <a:latin typeface="標楷體"/>
                <a:ea typeface="標楷體"/>
              </a:rPr>
              <a:t>/</a:t>
            </a:r>
            <a:r>
              <a:rPr b="0" lang="zh-CN" sz="5000" spc="-1" strike="noStrike">
                <a:solidFill>
                  <a:srgbClr val="006633"/>
                </a:solidFill>
                <a:latin typeface="標楷體"/>
                <a:ea typeface="標楷體"/>
              </a:rPr>
              <a:t>汇集</a:t>
            </a:r>
            <a:r>
              <a:rPr b="0" lang="en-US" sz="5000" spc="-1" strike="noStrike">
                <a:solidFill>
                  <a:srgbClr val="006633"/>
                </a:solidFill>
                <a:latin typeface="標楷體"/>
                <a:ea typeface="標楷體"/>
              </a:rPr>
              <a:t>/</a:t>
            </a:r>
            <a:r>
              <a:rPr b="0" lang="zh-TW" sz="5000" spc="-1" strike="noStrike">
                <a:solidFill>
                  <a:srgbClr val="006633"/>
                </a:solidFill>
                <a:latin typeface="標楷體"/>
                <a:ea typeface="標楷體"/>
              </a:rPr>
              <a:t>对话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685800" y="4800600"/>
            <a:ext cx="1654200" cy="906480"/>
            <a:chOff x="685800" y="4800600"/>
            <a:chExt cx="1654200" cy="906480"/>
          </a:xfrm>
        </p:grpSpPr>
        <p:pic>
          <p:nvPicPr>
            <p:cNvPr id="141" name="Picture 3" descr=""/>
            <p:cNvPicPr/>
            <p:nvPr/>
          </p:nvPicPr>
          <p:blipFill>
            <a:blip r:embed="rId1"/>
            <a:stretch/>
          </p:blipFill>
          <p:spPr>
            <a:xfrm>
              <a:off x="1586160" y="5168160"/>
              <a:ext cx="415440" cy="514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42" name="Picture 4" descr=""/>
            <p:cNvPicPr/>
            <p:nvPr/>
          </p:nvPicPr>
          <p:blipFill>
            <a:blip r:embed="rId2"/>
            <a:stretch/>
          </p:blipFill>
          <p:spPr>
            <a:xfrm>
              <a:off x="747000" y="4805640"/>
              <a:ext cx="703440" cy="901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3" name="Oval 4"/>
            <p:cNvSpPr/>
            <p:nvPr/>
          </p:nvSpPr>
          <p:spPr>
            <a:xfrm>
              <a:off x="691920" y="5570640"/>
              <a:ext cx="752400" cy="91800"/>
            </a:xfrm>
            <a:prstGeom prst="ellipse">
              <a:avLst/>
            </a:prstGeom>
            <a:noFill/>
            <a:ln w="64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6" descr=""/>
            <p:cNvPicPr/>
            <p:nvPr/>
          </p:nvPicPr>
          <p:blipFill>
            <a:blip r:embed="rId3"/>
            <a:stretch/>
          </p:blipFill>
          <p:spPr>
            <a:xfrm>
              <a:off x="1924560" y="4800600"/>
              <a:ext cx="415440" cy="5216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5" name="Oval 6"/>
            <p:cNvSpPr/>
            <p:nvPr/>
          </p:nvSpPr>
          <p:spPr>
            <a:xfrm>
              <a:off x="685800" y="5378400"/>
              <a:ext cx="754200" cy="91800"/>
            </a:xfrm>
            <a:prstGeom prst="ellipse">
              <a:avLst/>
            </a:prstGeom>
            <a:noFill/>
            <a:ln w="648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ight Arrow 7"/>
            <p:cNvSpPr/>
            <p:nvPr/>
          </p:nvSpPr>
          <p:spPr>
            <a:xfrm flipV="1" rot="19414200">
              <a:off x="1361880" y="5192640"/>
              <a:ext cx="708120" cy="25200"/>
            </a:xfrm>
            <a:prstGeom prst="rightArrow">
              <a:avLst>
                <a:gd name="adj1" fmla="val 50000"/>
                <a:gd name="adj2" fmla="val 50346"/>
              </a:avLst>
            </a:prstGeom>
            <a:solidFill>
              <a:srgbClr val="3b8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ight Arrow 8"/>
            <p:cNvSpPr/>
            <p:nvPr/>
          </p:nvSpPr>
          <p:spPr>
            <a:xfrm rot="18681000">
              <a:off x="1384920" y="5478120"/>
              <a:ext cx="318960" cy="21960"/>
            </a:xfrm>
            <a:prstGeom prst="rightArrow">
              <a:avLst>
                <a:gd name="adj1" fmla="val 50000"/>
                <a:gd name="adj2" fmla="val 50634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10" descr=""/>
          <p:cNvPicPr/>
          <p:nvPr/>
        </p:nvPicPr>
        <p:blipFill>
          <a:blip r:embed="rId4"/>
          <a:stretch/>
        </p:blipFill>
        <p:spPr>
          <a:xfrm>
            <a:off x="2743200" y="3657600"/>
            <a:ext cx="161604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5"/>
          <a:stretch/>
        </p:blipFill>
        <p:spPr>
          <a:xfrm>
            <a:off x="5867280" y="1752480"/>
            <a:ext cx="2362320" cy="590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6"/>
          <a:stretch/>
        </p:blipFill>
        <p:spPr>
          <a:xfrm>
            <a:off x="2057400" y="2819520"/>
            <a:ext cx="2311560" cy="577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7"/>
          <a:stretch/>
        </p:blipFill>
        <p:spPr>
          <a:xfrm>
            <a:off x="2743200" y="1828800"/>
            <a:ext cx="266688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Screen shot 2012-04-17 at 10.55.29 PM.png"/>
          <p:cNvPicPr/>
          <p:nvPr/>
        </p:nvPicPr>
        <p:blipFill>
          <a:blip r:embed="rId8"/>
          <a:stretch/>
        </p:blipFill>
        <p:spPr>
          <a:xfrm>
            <a:off x="4800600" y="2695680"/>
            <a:ext cx="1562040" cy="40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Screen shot 2012-04-17 at 10.56.41 PM.png"/>
          <p:cNvPicPr/>
          <p:nvPr/>
        </p:nvPicPr>
        <p:blipFill>
          <a:blip r:embed="rId9"/>
          <a:stretch/>
        </p:blipFill>
        <p:spPr>
          <a:xfrm>
            <a:off x="774720" y="1866960"/>
            <a:ext cx="1587600" cy="419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0"/>
          <a:srcRect l="14403" t="30019" r="16806" b="34304"/>
          <a:stretch/>
        </p:blipFill>
        <p:spPr>
          <a:xfrm>
            <a:off x="4648320" y="3962520"/>
            <a:ext cx="1838160" cy="534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Screen shot 2012-04-17 at 11.00.21 PM.png"/>
          <p:cNvPicPr/>
          <p:nvPr/>
        </p:nvPicPr>
        <p:blipFill>
          <a:blip r:embed="rId11"/>
          <a:stretch/>
        </p:blipFill>
        <p:spPr>
          <a:xfrm>
            <a:off x="685800" y="3657600"/>
            <a:ext cx="1717560" cy="804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2"/>
          <a:stretch/>
        </p:blipFill>
        <p:spPr>
          <a:xfrm>
            <a:off x="6781680" y="3809880"/>
            <a:ext cx="1573200" cy="59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"/>
          <p:cNvPicPr/>
          <p:nvPr/>
        </p:nvPicPr>
        <p:blipFill>
          <a:blip r:embed="rId13"/>
          <a:srcRect l="11486" t="0" r="11486" b="0"/>
          <a:stretch/>
        </p:blipFill>
        <p:spPr>
          <a:xfrm>
            <a:off x="7010280" y="4724280"/>
            <a:ext cx="1305000" cy="803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0" descr=""/>
          <p:cNvPicPr/>
          <p:nvPr/>
        </p:nvPicPr>
        <p:blipFill>
          <a:blip r:embed="rId14"/>
          <a:stretch/>
        </p:blipFill>
        <p:spPr>
          <a:xfrm>
            <a:off x="4648320" y="5203800"/>
            <a:ext cx="1222200" cy="4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Screen shot 2012-04-17 at 11.03.59 PM.png"/>
          <p:cNvPicPr/>
          <p:nvPr/>
        </p:nvPicPr>
        <p:blipFill>
          <a:blip r:embed="rId15"/>
          <a:stretch/>
        </p:blipFill>
        <p:spPr>
          <a:xfrm>
            <a:off x="685800" y="2819520"/>
            <a:ext cx="1028880" cy="444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s://encrypted-tbn3.gstatic.com/images?q=tbn:ANd9GcSubRu_mAeIAVZE8xdEgUbZoCkvK9ZAGWWdp0Q2Ce6aWttSxMpZkw"/>
          <p:cNvPicPr/>
          <p:nvPr/>
        </p:nvPicPr>
        <p:blipFill>
          <a:blip r:embed="rId16"/>
          <a:stretch/>
        </p:blipFill>
        <p:spPr>
          <a:xfrm>
            <a:off x="6019920" y="4648320"/>
            <a:ext cx="838080" cy="99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17"/>
          <a:stretch/>
        </p:blipFill>
        <p:spPr>
          <a:xfrm>
            <a:off x="4800600" y="3352680"/>
            <a:ext cx="1647720" cy="381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18"/>
          <a:stretch/>
        </p:blipFill>
        <p:spPr>
          <a:xfrm>
            <a:off x="4778280" y="4626000"/>
            <a:ext cx="990720" cy="45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Reprints Desk"/>
          <p:cNvPicPr/>
          <p:nvPr/>
        </p:nvPicPr>
        <p:blipFill>
          <a:blip r:embed="rId19"/>
          <a:stretch/>
        </p:blipFill>
        <p:spPr>
          <a:xfrm>
            <a:off x="2590920" y="4419720"/>
            <a:ext cx="1895400" cy="55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"/>
          <p:cNvPicPr/>
          <p:nvPr/>
        </p:nvPicPr>
        <p:blipFill>
          <a:blip r:embed="rId20"/>
          <a:stretch/>
        </p:blipFill>
        <p:spPr>
          <a:xfrm>
            <a:off x="7010280" y="2819520"/>
            <a:ext cx="12463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Screen shot 2012-01-18 at 8.22.27 PM.png"/>
          <p:cNvPicPr/>
          <p:nvPr/>
        </p:nvPicPr>
        <p:blipFill>
          <a:blip r:embed="rId21"/>
          <a:stretch/>
        </p:blipFill>
        <p:spPr>
          <a:xfrm>
            <a:off x="2666880" y="5257800"/>
            <a:ext cx="1676520" cy="35568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30"/>
          <p:cNvSpPr/>
          <p:nvPr/>
        </p:nvSpPr>
        <p:spPr>
          <a:xfrm>
            <a:off x="2514600" y="35053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31"/>
          <p:cNvSpPr/>
          <p:nvPr/>
        </p:nvSpPr>
        <p:spPr>
          <a:xfrm>
            <a:off x="457200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32"/>
          <p:cNvSpPr/>
          <p:nvPr/>
        </p:nvSpPr>
        <p:spPr>
          <a:xfrm>
            <a:off x="6629400" y="25909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33"/>
          <p:cNvSpPr/>
          <p:nvPr/>
        </p:nvSpPr>
        <p:spPr>
          <a:xfrm flipH="1">
            <a:off x="685800" y="25909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6"/>
          <p:cNvSpPr/>
          <p:nvPr/>
        </p:nvSpPr>
        <p:spPr>
          <a:xfrm flipH="1">
            <a:off x="685440" y="35053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7"/>
          <p:cNvSpPr/>
          <p:nvPr/>
        </p:nvSpPr>
        <p:spPr>
          <a:xfrm flipH="1">
            <a:off x="68580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38"/>
          <p:cNvSpPr/>
          <p:nvPr/>
        </p:nvSpPr>
        <p:spPr>
          <a:xfrm>
            <a:off x="556272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5"/>
          <p:cNvSpPr/>
          <p:nvPr/>
        </p:nvSpPr>
        <p:spPr>
          <a:xfrm>
            <a:off x="2590920" y="1600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47"/>
          <p:cNvSpPr/>
          <p:nvPr/>
        </p:nvSpPr>
        <p:spPr>
          <a:xfrm>
            <a:off x="1905120" y="2590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49"/>
          <p:cNvSpPr/>
          <p:nvPr/>
        </p:nvSpPr>
        <p:spPr>
          <a:xfrm flipH="1">
            <a:off x="4571640" y="45720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52"/>
          <p:cNvSpPr/>
          <p:nvPr/>
        </p:nvSpPr>
        <p:spPr>
          <a:xfrm flipH="1">
            <a:off x="2514240" y="419112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54"/>
          <p:cNvSpPr/>
          <p:nvPr/>
        </p:nvSpPr>
        <p:spPr>
          <a:xfrm flipH="1">
            <a:off x="2514240" y="513540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6858000" y="45720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66"/>
          <p:cNvSpPr/>
          <p:nvPr/>
        </p:nvSpPr>
        <p:spPr>
          <a:xfrm>
            <a:off x="5943600" y="45720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69"/>
          <p:cNvSpPr/>
          <p:nvPr/>
        </p:nvSpPr>
        <p:spPr>
          <a:xfrm flipH="1">
            <a:off x="6629400" y="35053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1"/>
          <p:cNvSpPr/>
          <p:nvPr/>
        </p:nvSpPr>
        <p:spPr>
          <a:xfrm flipH="1">
            <a:off x="4571640" y="32004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73"/>
          <p:cNvSpPr/>
          <p:nvPr/>
        </p:nvSpPr>
        <p:spPr>
          <a:xfrm flipH="1">
            <a:off x="4571640" y="38862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圖說文字 46"/>
          <p:cNvSpPr/>
          <p:nvPr/>
        </p:nvSpPr>
        <p:spPr>
          <a:xfrm>
            <a:off x="6858000" y="990720"/>
            <a:ext cx="1981080" cy="685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3edce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投影片与文件的分享网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圓角矩形圖說文字 48"/>
          <p:cNvSpPr/>
          <p:nvPr/>
        </p:nvSpPr>
        <p:spPr>
          <a:xfrm>
            <a:off x="3581280" y="990720"/>
            <a:ext cx="1981440" cy="761760"/>
          </a:xfrm>
          <a:prstGeom prst="wedgeRoundRectCallout">
            <a:avLst>
              <a:gd name="adj1" fmla="val -22138"/>
              <a:gd name="adj2" fmla="val 76083"/>
              <a:gd name="adj3" fmla="val 16667"/>
            </a:avLst>
          </a:prstGeom>
          <a:solidFill>
            <a:srgbClr val="d3edc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文献管理软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圓角矩形圖說文字 50"/>
          <p:cNvSpPr/>
          <p:nvPr/>
        </p:nvSpPr>
        <p:spPr>
          <a:xfrm>
            <a:off x="6858000" y="3581280"/>
            <a:ext cx="1981080" cy="1143000"/>
          </a:xfrm>
          <a:prstGeom prst="wedgeRoundRectCallout">
            <a:avLst>
              <a:gd name="adj1" fmla="val -12125"/>
              <a:gd name="adj2" fmla="val -59009"/>
              <a:gd name="adj3" fmla="val 16667"/>
            </a:avLst>
          </a:prstGeom>
          <a:solidFill>
            <a:srgbClr val="d3edce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网址缩短服务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使得分享网址更加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圓角矩形圖說文字 51"/>
          <p:cNvSpPr/>
          <p:nvPr/>
        </p:nvSpPr>
        <p:spPr>
          <a:xfrm>
            <a:off x="457200" y="1143000"/>
            <a:ext cx="2590920" cy="5335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3edce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简单的社会书签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圓角矩形圖說文字 53"/>
          <p:cNvSpPr/>
          <p:nvPr/>
        </p:nvSpPr>
        <p:spPr>
          <a:xfrm>
            <a:off x="533520" y="2666880"/>
            <a:ext cx="3276360" cy="838440"/>
          </a:xfrm>
          <a:prstGeom prst="wedgeRoundRectCallout">
            <a:avLst>
              <a:gd name="adj1" fmla="val -14583"/>
              <a:gd name="adj2" fmla="val 105087"/>
              <a:gd name="adj3" fmla="val 16667"/>
            </a:avLst>
          </a:prstGeom>
          <a:solidFill>
            <a:srgbClr val="d3edce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科学公共图书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rticle-Level Metrics (AL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圓角矩形圖說文字 55"/>
          <p:cNvSpPr/>
          <p:nvPr/>
        </p:nvSpPr>
        <p:spPr>
          <a:xfrm>
            <a:off x="3276720" y="3886200"/>
            <a:ext cx="3504960" cy="914400"/>
          </a:xfrm>
          <a:prstGeom prst="wedgeRoundRectCallout">
            <a:avLst>
              <a:gd name="adj1" fmla="val -14583"/>
              <a:gd name="adj2" fmla="val 105087"/>
              <a:gd name="adj3" fmla="val 16667"/>
            </a:avLst>
          </a:prstGeom>
          <a:solidFill>
            <a:srgbClr val="d3edce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享所有数字数据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含未发表的负面结果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ebometrics Ranking of World Universities (WRWU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年开始发布，于每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月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月更新，是现行主要世界大学排名之一。该排名基于各个大学在全球互联网上的资讯表现，衡量网页数量和链接数量等指标。该排名衡量指标体系分为两类：活跃性与可见性，各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％权重。活跃性指标又分为三个二级指标，各占其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权重：一是网页总量，指的是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能搜索到的关于一个大学的网页总量；二是开放性，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gle Scholar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检索到的、各大学建立的机构知识库中学术档案（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df,doc, 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等）的数量；三是卓越性，指各大学发表的论文进入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imago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数据库中各学科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％高被引行列的数量。可见性指标指由最大的商业链接情报数据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jestic SEO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和外部链接查询工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hrefs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联合显示的大学网站从第三方接入的外部链接数量，反映了大学的互联网影响力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RWU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的最大特色在于其衡量的是“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</a:rPr>
              <a:t>学术成果及其传播的网络表现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”，主要目的是供学校在制定学术和科学研究政策时参考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014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国大学网络排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清华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浙江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北京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武汉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山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厦门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上海交通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山东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东北师范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国科技大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22000" y="1719360"/>
            <a:ext cx="422892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ly citations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Geneva"/>
              </a:rPr>
              <a:t>学术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s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下载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cholarly citatio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非学术性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8400" indent="-349200">
              <a:spcBef>
                <a:spcPts val="425"/>
              </a:spcBef>
              <a:buClr>
                <a:srgbClr val="3b812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s coverage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宋体"/>
              </a:rPr>
              <a:t>新闻报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698400" indent="-349200">
              <a:spcBef>
                <a:spcPts val="425"/>
              </a:spcBef>
              <a:buClr>
                <a:srgbClr val="3b812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witter, Facebook, Google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698400" indent="-349200">
              <a:spcBef>
                <a:spcPts val="425"/>
              </a:spcBef>
              <a:buClr>
                <a:srgbClr val="3b812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logs, Wikipedia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博客，维基百科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publication recommendations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表后的推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98400" indent="-349200">
              <a:spcBef>
                <a:spcPts val="425"/>
              </a:spcBef>
              <a:buClr>
                <a:srgbClr val="3b812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culty of 1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698400" indent="-349200">
              <a:spcBef>
                <a:spcPts val="425"/>
              </a:spcBef>
              <a:buClr>
                <a:srgbClr val="3b812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ndeley, ResearchGate, Academia.edu, Pap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0200" y="917280"/>
            <a:ext cx="8155080" cy="6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宋体"/>
              </a:rPr>
              <a:t>文章级度量指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Line Callout 1 5"/>
          <p:cNvSpPr/>
          <p:nvPr/>
        </p:nvSpPr>
        <p:spPr>
          <a:xfrm>
            <a:off x="4842000" y="5700600"/>
            <a:ext cx="1214280" cy="335160"/>
          </a:xfrm>
          <a:prstGeom prst="borderCallout1">
            <a:avLst>
              <a:gd name="adj1" fmla="val 18750"/>
              <a:gd name="adj2" fmla="val -8333"/>
              <a:gd name="adj3" fmla="val -770277"/>
              <a:gd name="adj4" fmla="val -4208"/>
            </a:avLst>
          </a:prstGeom>
          <a:solidFill>
            <a:srgbClr val="d1dde9"/>
          </a:solidFill>
          <a:ln w="28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600" spc="-1" strike="noStrike">
                <a:solidFill>
                  <a:srgbClr val="006633"/>
                </a:solidFill>
                <a:latin typeface="Arial"/>
                <a:ea typeface="MS PGothic"/>
              </a:rPr>
              <a:t>Altmetric</a:t>
            </a:r>
            <a:r>
              <a:rPr b="1" i="1" lang="en-US" sz="1600" spc="-1" strike="noStrike" u="sng">
                <a:solidFill>
                  <a:srgbClr val="006633"/>
                </a:solidFill>
                <a:uFillTx/>
                <a:latin typeface="Arial"/>
                <a:ea typeface="MS PGothi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E8B-36E2-4F60-A422-DB3F4A2C3924}" type="slidenum">
              <a:rPr b="0" lang="en-US" sz="1800" spc="-1" strike="noStrike">
                <a:solidFill>
                  <a:srgbClr val="898989"/>
                </a:solidFill>
                <a:latin typeface="Arial"/>
                <a:ea typeface="PMingLiU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5440" y="6351480"/>
            <a:ext cx="769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  <a:ea typeface="Arial"/>
              </a:rPr>
              <a:t>Source:  Canadian Association of Research Libraries, Altmetrics in Context</a:t>
            </a:r>
            <a:br>
              <a:rPr sz="1100"/>
            </a:br>
            <a:r>
              <a:rPr b="0" lang="en-US" sz="1100" spc="-1" strike="noStrike">
                <a:solidFill>
                  <a:srgbClr val="7f7f7f"/>
                </a:solidFill>
                <a:latin typeface="Arial"/>
                <a:ea typeface="Arial"/>
              </a:rPr>
              <a:t>http://www.carl-abrc.ca/uploads/SCC/CARL2013-altmetrics-EN-FA.pd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M:\Creative Services\Plum Analytics\PPT\02_Support\AltMet_03.png"/>
          <p:cNvPicPr/>
          <p:nvPr/>
        </p:nvPicPr>
        <p:blipFill>
          <a:blip r:embed="rId1"/>
          <a:srcRect l="33625" t="0" r="32751" b="64163"/>
          <a:stretch/>
        </p:blipFill>
        <p:spPr>
          <a:xfrm>
            <a:off x="3581280" y="5335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199" name="Title 1"/>
          <p:cNvSpPr/>
          <p:nvPr/>
        </p:nvSpPr>
        <p:spPr>
          <a:xfrm>
            <a:off x="0" y="762120"/>
            <a:ext cx="3048120" cy="1600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ltmetr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M:\Creative Services\Plum Analytics\PPT\02_Support\AltMet_03.png"/>
          <p:cNvPicPr/>
          <p:nvPr/>
        </p:nvPicPr>
        <p:blipFill>
          <a:blip r:embed="rId2"/>
          <a:srcRect l="0" t="48747" r="67578" b="14339"/>
          <a:stretch/>
        </p:blipFill>
        <p:spPr>
          <a:xfrm>
            <a:off x="762120" y="3143160"/>
            <a:ext cx="2057400" cy="196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M:\Creative Services\Plum Analytics\PPT\02_Support\AltMet_03.png"/>
          <p:cNvPicPr/>
          <p:nvPr/>
        </p:nvPicPr>
        <p:blipFill>
          <a:blip r:embed="rId3"/>
          <a:srcRect l="34828" t="47318" r="32751" b="14339"/>
          <a:stretch/>
        </p:blipFill>
        <p:spPr>
          <a:xfrm>
            <a:off x="3657600" y="30672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M:\Creative Services\Plum Analytics\PPT\02_Support\AltMet_03.png"/>
          <p:cNvPicPr/>
          <p:nvPr/>
        </p:nvPicPr>
        <p:blipFill>
          <a:blip r:embed="rId4"/>
          <a:srcRect l="69656" t="48747" r="0" b="14339"/>
          <a:stretch/>
        </p:blipFill>
        <p:spPr>
          <a:xfrm>
            <a:off x="6477120" y="3143160"/>
            <a:ext cx="1925640" cy="196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M:\Creative Services\Plum Analytics\PPT\02_Support\AltMet_03.png"/>
          <p:cNvPicPr/>
          <p:nvPr/>
        </p:nvPicPr>
        <p:blipFill>
          <a:blip r:embed="rId5"/>
          <a:srcRect l="67255" t="0" r="-868" b="64163"/>
          <a:stretch/>
        </p:blipFill>
        <p:spPr>
          <a:xfrm>
            <a:off x="6324480" y="5335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1"/>
          <p:cNvSpPr/>
          <p:nvPr/>
        </p:nvSpPr>
        <p:spPr>
          <a:xfrm>
            <a:off x="335268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PMingLiU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PMingLiU"/>
              </a:rPr>
              <a:t>(views, downloa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6172200" y="2438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PMingLiU"/>
              </a:rPr>
              <a:t>CAP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PMingLiU"/>
              </a:rPr>
              <a:t>(bookmarks, favorites, read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33520" y="5181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PMingLiU"/>
              </a:rPr>
              <a:t>M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PMingLiU"/>
              </a:rPr>
              <a:t>(Wikipedia, comments, bl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3429000" y="5181480"/>
            <a:ext cx="2362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PMingLiU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PMingLiU"/>
              </a:rPr>
              <a:t>(Facebook likes, shares, twe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6248520" y="5181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PMingLiU"/>
              </a:rPr>
              <a:t>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PMingLiU"/>
              </a:rPr>
              <a:t>(Scopus, pat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字方塊 16"/>
          <p:cNvSpPr/>
          <p:nvPr/>
        </p:nvSpPr>
        <p:spPr>
          <a:xfrm>
            <a:off x="380880" y="0"/>
            <a:ext cx="5943600" cy="520560"/>
          </a:xfrm>
          <a:prstGeom prst="rect">
            <a:avLst/>
          </a:prstGeom>
          <a:solidFill>
            <a:srgbClr val="d0ec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ternative Metrics 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另一种评量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字方塊 17"/>
          <p:cNvSpPr/>
          <p:nvPr/>
        </p:nvSpPr>
        <p:spPr>
          <a:xfrm>
            <a:off x="6248520" y="0"/>
            <a:ext cx="2286000" cy="520560"/>
          </a:xfrm>
          <a:prstGeom prst="rect">
            <a:avLst/>
          </a:prstGeom>
          <a:solidFill>
            <a:srgbClr val="d0ec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= All Metric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3"/>
          <p:cNvSpPr/>
          <p:nvPr/>
        </p:nvSpPr>
        <p:spPr>
          <a:xfrm>
            <a:off x="950760" y="2041560"/>
            <a:ext cx="1702080" cy="1693800"/>
          </a:xfrm>
          <a:prstGeom prst="ellipse">
            <a:avLst/>
          </a:prstGeom>
          <a:solidFill>
            <a:srgbClr val="d647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3591000" y="2041560"/>
            <a:ext cx="1700280" cy="1693800"/>
          </a:xfrm>
          <a:prstGeom prst="ellipse">
            <a:avLst/>
          </a:prstGeom>
          <a:solidFill>
            <a:srgbClr val="d647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6459480" y="2041560"/>
            <a:ext cx="1700280" cy="1693800"/>
          </a:xfrm>
          <a:prstGeom prst="ellipse">
            <a:avLst/>
          </a:prstGeom>
          <a:solidFill>
            <a:srgbClr val="d647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1004760" y="3951360"/>
            <a:ext cx="16480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felt the metrics were useful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Rosario Regular"/>
              </a:rPr>
              <a:t>认为这些度量指标有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111480" y="3951360"/>
            <a:ext cx="2657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agreed or strongly agreed that altmetrics enhanced the value of the journal article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赞同或强烈赞同</a:t>
            </a:r>
            <a:r>
              <a:rPr b="0" lang="en-US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altmetrics</a:t>
            </a:r>
            <a:r>
              <a:rPr b="0" lang="zh-CN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提高了期刊文章的价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6240600" y="3948120"/>
            <a:ext cx="21240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agreed they were more likely to submit a paper to a journal that supports altmetrics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表示更倾向于向支持</a:t>
            </a:r>
            <a:r>
              <a:rPr b="0" lang="en-US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altmetrics</a:t>
            </a:r>
            <a:r>
              <a:rPr b="0" lang="zh-CN" sz="16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的杂志投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482760" y="5952960"/>
            <a:ext cx="74210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Source: Web poll from Wiley’s alternative metrics pilot, 2014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来源：</a:t>
            </a:r>
            <a:r>
              <a:rPr b="0" lang="en-US" sz="14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Wiley</a:t>
            </a:r>
            <a:r>
              <a:rPr b="0" lang="zh-CN" sz="14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社媒指标试点网络投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Rosario Regular"/>
                <a:ea typeface="Rosario Regular"/>
              </a:rPr>
              <a:t>http://exchanges.wiley.com/blog/2014/03/19/wiley-introduces-altmetrics-to-its-open-access-journal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181160" y="2536920"/>
            <a:ext cx="1243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3858840" y="2533680"/>
            <a:ext cx="11847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7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710040" y="2533680"/>
            <a:ext cx="11847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sario Regular"/>
                <a:ea typeface="Rosario Regular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0200" y="917280"/>
            <a:ext cx="8155080" cy="6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受到</a:t>
            </a:r>
            <a:r>
              <a:rPr b="0" lang="zh-CN" sz="4200" spc="-1" strike="noStrike">
                <a:solidFill>
                  <a:srgbClr val="006633"/>
                </a:solidFill>
                <a:latin typeface="宋体"/>
              </a:rPr>
              <a:t>文章作者欢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2"/>
          <p:cNvSpPr/>
          <p:nvPr/>
        </p:nvSpPr>
        <p:spPr>
          <a:xfrm>
            <a:off x="546120" y="4116240"/>
            <a:ext cx="3951360" cy="246384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546120" y="1419120"/>
            <a:ext cx="3951360" cy="2463840"/>
          </a:xfrm>
          <a:prstGeom prst="rect">
            <a:avLst/>
          </a:prstGeom>
          <a:solidFill>
            <a:srgbClr val="946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4686480" y="4116240"/>
            <a:ext cx="3952800" cy="246384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4686480" y="1419120"/>
            <a:ext cx="3952800" cy="2463840"/>
          </a:xfrm>
          <a:prstGeom prst="rect">
            <a:avLst/>
          </a:prstGeom>
          <a:solidFill>
            <a:srgbClr val="946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546120" y="1450800"/>
            <a:ext cx="3951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Librarians</a:t>
            </a: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图书管理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help researchers track the attention paid to their articles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帮助研究人员跟踪别人对他们文章的关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add value to my institutional repository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增加我的机构知识库的价值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738680" y="1450800"/>
            <a:ext cx="395136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Research administrators</a:t>
            </a: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科研管理人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monitor &amp; report on uptake, usage, and impact of publications by department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按部门监控和报告出版物的摄取、使用情况和影响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comply with funder and governmental mandates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需要遵守资助方和政府规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439560" y="4194000"/>
            <a:ext cx="4140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Communications / PR team</a:t>
            </a: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沟通</a:t>
            </a:r>
            <a:r>
              <a:rPr b="0" lang="en-US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公关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share our institution’s success stories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要分享我们机构的成功案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maximise the reach of our institution’s research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要最大程度地推广我们机构的研究成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4886280" y="4194000"/>
            <a:ext cx="36561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Researchers</a:t>
            </a: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研究人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find indicators of impact for my CV and funding applications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要得到用于简历和拨款申请的影响力指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I want to make informed decisions on future publishing choices.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Rosario Regular"/>
                <a:ea typeface="Rosario Regular"/>
              </a:rPr>
              <a:t>我想要关于未来的出版选择做出明智的决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0200" y="695160"/>
            <a:ext cx="8155080" cy="6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宋体"/>
              </a:rPr>
              <a:t>机构用户也表示欢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標楷體"/>
                <a:ea typeface="標楷體"/>
              </a:rPr>
              <a:t>将大数据转换成对科研人员有用的信息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343400" y="1600200"/>
            <a:ext cx="4648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观察针对科研所做的推广与努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发现其他相关的科研人员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全球有哪些地区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科研人员在对我的研究进行交流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互动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下次我应该在哪里发表我的学术成果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我的合著者学术表现如何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群組 5"/>
          <p:cNvGrpSpPr/>
          <p:nvPr/>
        </p:nvGrpSpPr>
        <p:grpSpPr>
          <a:xfrm>
            <a:off x="1523880" y="1676520"/>
            <a:ext cx="2654280" cy="1199880"/>
            <a:chOff x="1523880" y="1676520"/>
            <a:chExt cx="2654280" cy="1199880"/>
          </a:xfrm>
        </p:grpSpPr>
        <p:sp>
          <p:nvSpPr>
            <p:cNvPr id="234" name="矩形 15"/>
            <p:cNvSpPr/>
            <p:nvPr/>
          </p:nvSpPr>
          <p:spPr>
            <a:xfrm>
              <a:off x="1523880" y="1676520"/>
              <a:ext cx="2654280" cy="1199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6"/>
            <p:cNvSpPr/>
            <p:nvPr/>
          </p:nvSpPr>
          <p:spPr>
            <a:xfrm>
              <a:off x="1523880" y="1676520"/>
              <a:ext cx="265428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Performing 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6"/>
          <p:cNvSpPr/>
          <p:nvPr/>
        </p:nvSpPr>
        <p:spPr>
          <a:xfrm>
            <a:off x="216000" y="1676520"/>
            <a:ext cx="1189080" cy="1199880"/>
          </a:xfrm>
          <a:prstGeom prst="rect">
            <a:avLst/>
          </a:pr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群組 7"/>
          <p:cNvGrpSpPr/>
          <p:nvPr/>
        </p:nvGrpSpPr>
        <p:grpSpPr>
          <a:xfrm>
            <a:off x="216000" y="3075120"/>
            <a:ext cx="2655720" cy="1201680"/>
            <a:chOff x="216000" y="3075120"/>
            <a:chExt cx="2655720" cy="1201680"/>
          </a:xfrm>
        </p:grpSpPr>
        <p:sp>
          <p:nvSpPr>
            <p:cNvPr id="238" name="矩形 13"/>
            <p:cNvSpPr/>
            <p:nvPr/>
          </p:nvSpPr>
          <p:spPr>
            <a:xfrm>
              <a:off x="216000" y="3075120"/>
              <a:ext cx="2655720" cy="1201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4"/>
            <p:cNvSpPr/>
            <p:nvPr/>
          </p:nvSpPr>
          <p:spPr>
            <a:xfrm>
              <a:off x="216000" y="3075120"/>
              <a:ext cx="265572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Funding 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8"/>
          <p:cNvSpPr/>
          <p:nvPr/>
        </p:nvSpPr>
        <p:spPr>
          <a:xfrm>
            <a:off x="2990880" y="3075120"/>
            <a:ext cx="1187280" cy="1201680"/>
          </a:xfrm>
          <a:prstGeom prst="rect">
            <a:avLst/>
          </a:pr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群組 9"/>
          <p:cNvGrpSpPr/>
          <p:nvPr/>
        </p:nvGrpSpPr>
        <p:grpSpPr>
          <a:xfrm>
            <a:off x="1523880" y="4473720"/>
            <a:ext cx="2654280" cy="1201680"/>
            <a:chOff x="1523880" y="4473720"/>
            <a:chExt cx="2654280" cy="1201680"/>
          </a:xfrm>
        </p:grpSpPr>
        <p:sp>
          <p:nvSpPr>
            <p:cNvPr id="242" name="矩形 11"/>
            <p:cNvSpPr/>
            <p:nvPr/>
          </p:nvSpPr>
          <p:spPr>
            <a:xfrm>
              <a:off x="1523880" y="4473720"/>
              <a:ext cx="2654280" cy="1201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2"/>
            <p:cNvSpPr/>
            <p:nvPr/>
          </p:nvSpPr>
          <p:spPr>
            <a:xfrm>
              <a:off x="1523880" y="4473720"/>
              <a:ext cx="265428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Publishing Research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10"/>
          <p:cNvSpPr/>
          <p:nvPr/>
        </p:nvSpPr>
        <p:spPr>
          <a:xfrm>
            <a:off x="216000" y="4473720"/>
            <a:ext cx="1189080" cy="1201680"/>
          </a:xfrm>
          <a:prstGeom prst="rect">
            <a:avLst/>
          </a:prstGeom>
          <a:solidFill>
            <a:srgbClr val="bfbfb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0FB80A89.mov" descr=""/>
          <p:cNvPicPr/>
          <p:nvPr/>
        </p:nvPicPr>
        <p:blipFill>
          <a:blip r:embed="rId1"/>
          <a:stretch/>
        </p:blipFill>
        <p:spPr>
          <a:xfrm>
            <a:off x="4680" y="380880"/>
            <a:ext cx="9139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6465391C.mov" descr=""/>
          <p:cNvPicPr/>
          <p:nvPr/>
        </p:nvPicPr>
        <p:blipFill>
          <a:blip r:embed="rId1"/>
          <a:stretch/>
        </p:blipFill>
        <p:spPr>
          <a:xfrm>
            <a:off x="31680" y="457200"/>
            <a:ext cx="9043920" cy="576432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E87-9A55-40CE-BD25-1D471032E69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eats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倒闭      为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sevi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什么时候开始免费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Times New Roman"/>
                <a:ea typeface="微軟正黑體"/>
              </a:rPr>
              <a:t>ARL’s 2013 Report*, “Transforming Liaison Roles in Research Libraries”</a:t>
            </a:r>
            <a:br>
              <a:rPr sz="3400"/>
            </a:br>
            <a:r>
              <a:rPr b="0" lang="zh-CN" sz="3400" spc="-1" strike="noStrike">
                <a:solidFill>
                  <a:srgbClr val="006633"/>
                </a:solidFill>
                <a:latin typeface="標楷體"/>
                <a:ea typeface="標楷體"/>
              </a:rPr>
              <a:t>研究型图书馆的联系角色转变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1904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微軟正黑體"/>
              </a:rPr>
              <a:t>.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changing technologies, more digital information in more formats, changing research methods, and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  <a:ea typeface="微軟正黑體"/>
              </a:rPr>
              <a:t>new practices of how scholars communicate and disseminate their creative wor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, demand that librarians’ roles in collection development and in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  <a:ea typeface="微軟正黑體"/>
              </a:rPr>
              <a:t>other area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need to evolve, too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微軟正黑體"/>
              </a:rPr>
              <a:t>..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科技的变化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更多元化的数字资源呈现方式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研究方法的变化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及</a:t>
            </a:r>
            <a:r>
              <a:rPr b="0" lang="zh-CN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学术交流与创新成果传递的新方式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均要求图书馆员在馆藏发展的角色扮演外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同时也需涉入</a:t>
            </a:r>
            <a:r>
              <a:rPr b="1" lang="zh-CN" sz="2600" spc="-1" strike="noStrike">
                <a:solidFill>
                  <a:srgbClr val="558ed5"/>
                </a:solidFill>
                <a:latin typeface="標楷體"/>
                <a:ea typeface="標楷體"/>
              </a:rPr>
              <a:t>其它领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投影片編號版面配置區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F7E5-D230-4204-A11E-9C1254F5E23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字方塊 4"/>
          <p:cNvSpPr/>
          <p:nvPr/>
        </p:nvSpPr>
        <p:spPr>
          <a:xfrm>
            <a:off x="228600" y="601992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*Association of Research Libraries (2013). New roles for new times: Transforming liaison roles in research libra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http://www.arl.org/storage/documents/publications/NRNT-Liaison-Roles-final.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字方塊 1"/>
          <p:cNvSpPr/>
          <p:nvPr/>
        </p:nvSpPr>
        <p:spPr>
          <a:xfrm>
            <a:off x="533520" y="228600"/>
            <a:ext cx="80769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国家信息标准组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ISO)Altmetrics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标准白皮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NISO Altmetrics Standards Project Whit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(Draft 4, June 6,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軟正黑體"/>
              </a:rPr>
              <a:t>http://www.niso.org/apps/group_public/download.php/13295/niso_altmetrics_white_paper_draft_v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52280" y="1981080"/>
            <a:ext cx="883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Libraries are increasingly asked by administrations to provide metrics about their faculty, and bo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軟正黑體"/>
              </a:rPr>
              <a:t>institutional reposito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軟正黑體"/>
              </a:rPr>
              <a:t>research information syst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play a central role in this activity. Many librarians are involved in discussions around metrics, including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軟正黑體"/>
              </a:rPr>
              <a:t>alternative assessment metrics, and often serve as ambassadors for new approaches within an i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图书馆被行政主管要求提供关于老师著作的计量工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日益增加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而</a:t>
            </a:r>
            <a:r>
              <a:rPr b="0" lang="zh-CN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机构典藏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(IR)</a:t>
            </a:r>
            <a:r>
              <a:rPr b="0" lang="zh-CN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与研究信息系统</a:t>
            </a:r>
            <a:r>
              <a:rPr b="0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(RIS)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功能在此活动扮演主要角色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许多馆员参与讨论各种计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包括另类评估计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tmetrics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且时常在服务机构内担任此项新方法的解说大使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48640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380880" y="2057400"/>
            <a:ext cx="3124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44280">
                  <a:solidFill>
                    <a:srgbClr val="660066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ONLINE !</a:t>
            </a:r>
            <a:endParaRPr b="0" i="1" lang="en-US" sz="1800" spc="1" strike="noStrike">
              <a:ln w="44280">
                <a:solidFill>
                  <a:srgbClr val="660066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99" name="文字方塊 3"/>
          <p:cNvSpPr/>
          <p:nvPr/>
        </p:nvSpPr>
        <p:spPr>
          <a:xfrm>
            <a:off x="685800" y="2286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互联网今年</a:t>
            </a:r>
            <a:r>
              <a:rPr b="0" lang="en-US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25</a:t>
            </a:r>
            <a:r>
              <a:rPr b="0" lang="zh-CN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岁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字方塊 3"/>
          <p:cNvSpPr/>
          <p:nvPr/>
        </p:nvSpPr>
        <p:spPr>
          <a:xfrm>
            <a:off x="609480" y="7621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随着网络的普及与发展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图书馆服务的显性价值不再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隐性短期难现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圖片 4" descr="Google-1.gif"/>
          <p:cNvPicPr/>
          <p:nvPr/>
        </p:nvPicPr>
        <p:blipFill>
          <a:blip r:embed="rId1"/>
          <a:stretch/>
        </p:blipFill>
        <p:spPr>
          <a:xfrm>
            <a:off x="228600" y="2895480"/>
            <a:ext cx="3990960" cy="259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076720" y="3068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读者首选图书馆网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Times New Roman"/>
                <a:ea typeface="PMingLiU"/>
              </a:rPr>
              <a:t>2012 top ten trends in academic libraries:</a:t>
            </a:r>
            <a:br>
              <a:rPr sz="3400"/>
            </a:br>
            <a:r>
              <a:rPr b="0" lang="en-US" sz="1700" spc="-1" strike="noStrike">
                <a:solidFill>
                  <a:srgbClr val="006633"/>
                </a:solidFill>
                <a:latin typeface="Times New Roman"/>
                <a:ea typeface="PMingLiU"/>
              </a:rPr>
              <a:t>A review of the trends and issues affecting academic libraries in higher education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微軟正黑體"/>
              </a:rPr>
              <a:t>Academic libraries must prove the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  <a:ea typeface="微軟正黑體"/>
              </a:rPr>
              <a:t>value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微軟正黑體"/>
              </a:rPr>
              <a:t> they provide to the academic enterprise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軟正黑體"/>
              </a:rPr>
              <a:t>In a recent editorial, Rick Anderson stated that “unless we give our funding bodies better and more compelling reasons to support libraries, they will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微軟正黑體"/>
              </a:rPr>
              <a:t>be forced by economic reality to stop doing s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軟正黑體"/>
              </a:rPr>
              <a:t>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高校图书馆必须向所服务的学术机构证明自身的</a:t>
            </a:r>
            <a:r>
              <a:rPr b="1" lang="zh-CN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价值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, Rick Anderson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指出“除非我们给资助机构更好和更多有说服力的理由来支持图书馆，否则他们因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经济现实而会停止对于图书馆的资助</a:t>
            </a:r>
            <a:r>
              <a:rPr b="0" lang="zh-CN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EB5-445A-40E6-AF2C-9BD6F728E0F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762120" y="5715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ea typeface="微軟正黑體"/>
                <a:hlinkClick r:id="rId1"/>
              </a:rPr>
              <a:t>http://crln.acrl.org/content/73/6/311.f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字方塊 5"/>
          <p:cNvSpPr/>
          <p:nvPr/>
        </p:nvSpPr>
        <p:spPr>
          <a:xfrm>
            <a:off x="1066680" y="1676520"/>
            <a:ext cx="7239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w scholarly communic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blishing models are develop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 ever-faster pace, requiring libraries to b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ly involv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e </a:t>
            </a:r>
            <a:r>
              <a:rPr b="1" lang="en-US" sz="3200" spc="-1" strike="noStrike">
                <a:solidFill>
                  <a:srgbClr val="ffd147"/>
                </a:solidFill>
                <a:latin typeface="Times New Roman"/>
                <a:ea typeface="Times New Roman"/>
              </a:rPr>
              <a:t>left beh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新的学术交流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与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出版模式的发展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新月异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需要图书馆</a:t>
            </a:r>
            <a:r>
              <a:rPr b="1" lang="zh-CN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主动参与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否则</a:t>
            </a:r>
            <a:r>
              <a:rPr b="1" lang="zh-CN" sz="3200" spc="-1" strike="noStrike">
                <a:solidFill>
                  <a:srgbClr val="ffd147"/>
                </a:solidFill>
                <a:latin typeface="標楷體"/>
                <a:ea typeface="標楷體"/>
              </a:rPr>
              <a:t>被遗忘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Times New Roman"/>
                <a:ea typeface="PMingLiU"/>
              </a:rPr>
              <a:t>2012 top ten trends in academic libraries:</a:t>
            </a:r>
            <a:br>
              <a:rPr sz="3400"/>
            </a:br>
            <a:r>
              <a:rPr b="0" lang="en-US" sz="1700" spc="-1" strike="noStrike">
                <a:solidFill>
                  <a:srgbClr val="006633"/>
                </a:solidFill>
                <a:latin typeface="Times New Roman"/>
                <a:ea typeface="PMingLiU"/>
              </a:rPr>
              <a:t>A review of the trends and issues affecting academic libraries in higher education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143000" y="54864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ea typeface="微軟正黑體"/>
                <a:hlinkClick r:id="rId1"/>
              </a:rPr>
              <a:t>http://crln.acrl.org/content/73/6/311.f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685800" y="1981080"/>
            <a:ext cx="7391520" cy="4048200"/>
            <a:chOff x="685800" y="1981080"/>
            <a:chExt cx="7391520" cy="404820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4709160" y="3622680"/>
              <a:ext cx="1855800" cy="2297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2" name="Picture 4" descr=""/>
            <p:cNvPicPr/>
            <p:nvPr/>
          </p:nvPicPr>
          <p:blipFill>
            <a:blip r:embed="rId2"/>
            <a:stretch/>
          </p:blipFill>
          <p:spPr>
            <a:xfrm>
              <a:off x="784440" y="2004840"/>
              <a:ext cx="3143880" cy="4024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3" name="Oval 5"/>
            <p:cNvSpPr/>
            <p:nvPr/>
          </p:nvSpPr>
          <p:spPr>
            <a:xfrm>
              <a:off x="711000" y="5418360"/>
              <a:ext cx="3368880" cy="412560"/>
            </a:xfrm>
            <a:prstGeom prst="ellipse">
              <a:avLst/>
            </a:prstGeom>
            <a:noFill/>
            <a:ln w="255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6221520" y="1981080"/>
              <a:ext cx="1855800" cy="232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5" name="Oval 11"/>
            <p:cNvSpPr/>
            <p:nvPr/>
          </p:nvSpPr>
          <p:spPr>
            <a:xfrm>
              <a:off x="685800" y="4559400"/>
              <a:ext cx="3368880" cy="412560"/>
            </a:xfrm>
            <a:prstGeom prst="ellipse">
              <a:avLst/>
            </a:prstGeom>
            <a:noFill/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Arrow 8"/>
            <p:cNvSpPr/>
            <p:nvPr/>
          </p:nvSpPr>
          <p:spPr>
            <a:xfrm flipV="1" rot="19414200">
              <a:off x="3708000" y="3735360"/>
              <a:ext cx="3163680" cy="1076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3b8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ight Arrow 9"/>
            <p:cNvSpPr/>
            <p:nvPr/>
          </p:nvSpPr>
          <p:spPr>
            <a:xfrm rot="18681000">
              <a:off x="3811680" y="5006520"/>
              <a:ext cx="1425600" cy="95040"/>
            </a:xfrm>
            <a:prstGeom prst="rightArrow">
              <a:avLst>
                <a:gd name="adj1" fmla="val 50000"/>
                <a:gd name="adj2" fmla="val 50139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itle 1"/>
          <p:cNvSpPr/>
          <p:nvPr/>
        </p:nvSpPr>
        <p:spPr>
          <a:xfrm>
            <a:off x="380880" y="274680"/>
            <a:ext cx="7925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2159"/>
                </a:solidFill>
                <a:latin typeface="Arial"/>
                <a:ea typeface="PMingLiU"/>
              </a:rPr>
              <a:t>Current stat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41640" y="68580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aa540"/>
                </a:solidFill>
                <a:latin typeface="Arial"/>
                <a:ea typeface="PMingLiU"/>
              </a:rPr>
              <a:t>Scholarly Meas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8686800" y="228600"/>
            <a:ext cx="457200" cy="246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AE96-4395-44E5-91A1-A62F70953E6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3733920" y="2133720"/>
            <a:ext cx="1904760" cy="91440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Impac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3.1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高影响力期刊，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0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次引用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191120" cy="188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826920" y="4076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826920" y="3789360"/>
            <a:ext cx="7972560" cy="1224000"/>
            <a:chOff x="826920" y="3789360"/>
            <a:chExt cx="7972560" cy="1224000"/>
          </a:xfrm>
        </p:grpSpPr>
        <p:pic>
          <p:nvPicPr>
            <p:cNvPr id="126" name="Picture 6" descr=""/>
            <p:cNvPicPr/>
            <p:nvPr/>
          </p:nvPicPr>
          <p:blipFill>
            <a:blip r:embed="rId2"/>
            <a:stretch/>
          </p:blipFill>
          <p:spPr>
            <a:xfrm>
              <a:off x="826920" y="3789360"/>
              <a:ext cx="7972560" cy="1224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7" name="Picture 4" descr=""/>
            <p:cNvPicPr/>
            <p:nvPr/>
          </p:nvPicPr>
          <p:blipFill>
            <a:blip r:embed="rId3"/>
            <a:stretch/>
          </p:blipFill>
          <p:spPr>
            <a:xfrm>
              <a:off x="6410160" y="4614840"/>
              <a:ext cx="2181240" cy="353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</p:pic>
      </p:grpSp>
      <p:sp>
        <p:nvSpPr>
          <p:cNvPr id="128" name="Text Box 10"/>
          <p:cNvSpPr/>
          <p:nvPr/>
        </p:nvSpPr>
        <p:spPr>
          <a:xfrm>
            <a:off x="971640" y="5589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2771640" y="5157720"/>
            <a:ext cx="4537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1"/>
          <p:cNvSpPr/>
          <p:nvPr/>
        </p:nvSpPr>
        <p:spPr>
          <a:xfrm>
            <a:off x="468360" y="2421000"/>
            <a:ext cx="8062920" cy="28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MS PGothic"/>
              </a:rPr>
              <a:t>Article with many citations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Calibri"/>
                <a:ea typeface="MS PGothic"/>
              </a:rPr>
              <a:t>引用次数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很多的文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MS PGothic"/>
              </a:rPr>
              <a:t>Article widely discussed in the social web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在社交网络上广泛讨论的文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MS PGothic"/>
              </a:rPr>
              <a:t>Article with lots of downloads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下载量很大的文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MS PGothic"/>
              </a:rPr>
              <a:t>Article discussed on CNN</a:t>
            </a:r>
            <a:br>
              <a:rPr sz="2100"/>
            </a:br>
            <a:r>
              <a:rPr b="0" lang="zh-CN" sz="2100" spc="-1" strike="noStrike">
                <a:solidFill>
                  <a:srgbClr val="000000"/>
                </a:solidFill>
                <a:latin typeface="Calibri"/>
                <a:ea typeface="MS PGothic"/>
              </a:rPr>
              <a:t>获得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CNN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讨论的文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09640" y="5219640"/>
            <a:ext cx="2195640" cy="1193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7647120" y="1314360"/>
            <a:ext cx="907920" cy="8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6878520" y="3540240"/>
            <a:ext cx="184788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7402680" y="4670280"/>
            <a:ext cx="1323720" cy="62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5"/>
          <a:stretch/>
        </p:blipFill>
        <p:spPr>
          <a:xfrm>
            <a:off x="7504200" y="2581200"/>
            <a:ext cx="1122120" cy="5414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0200" y="917640"/>
            <a:ext cx="815508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zh-CN" sz="4200" spc="-1" strike="noStrike">
                <a:solidFill>
                  <a:srgbClr val="006633"/>
                </a:solidFill>
                <a:latin typeface="宋体"/>
              </a:rPr>
              <a:t>哪篇文章产生更大的影响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3022560" y="5680080"/>
            <a:ext cx="1459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2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633"/>
                </a:solidFill>
                <a:latin typeface="Arial"/>
                <a:ea typeface="MS PGothic"/>
              </a:rPr>
              <a:t>我认为：普通社交媒体将会取代影响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5:34:26Z</dcterms:created>
  <dc:creator>User</dc:creator>
  <dc:description/>
  <dc:language>en-US</dc:language>
  <cp:lastModifiedBy>陈华</cp:lastModifiedBy>
  <dcterms:modified xsi:type="dcterms:W3CDTF">2014-11-21T00:19:04Z</dcterms:modified>
  <cp:revision>8</cp:revision>
  <dc:subject/>
  <dc:title>幻灯片 1</dc:title>
</cp:coreProperties>
</file>